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ACF-3436-418F-91FB-2D65C127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E1B-EA16-4C32-84C6-BD6CC0BD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2AE-4CE1-4973-9114-09F76C17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407-62BF-4D85-B450-2102AEB2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970-C982-40E4-A3BC-2CE70AFD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ADA-E556-4750-84B9-3061A436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F15-2933-4211-AADA-D0BB7694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7EF-871B-4526-95A0-A4386C56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59F-C49E-4265-9660-048C4B72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07B-A2C2-40F0-9A77-AE558DB4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7E3-A0D1-4E90-8F61-960EB9DC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420-BA28-4E7F-B64C-1623BEE3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119E-D983-4304-B2B5-014000077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5184720" cy="388944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43640" y="1197000"/>
            <a:ext cx="2373480" cy="374472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артинка 31 из 56290"/>
          <p:cNvPicPr/>
          <p:nvPr/>
        </p:nvPicPr>
        <p:blipFill>
          <a:blip r:embed="rId1"/>
          <a:stretch/>
        </p:blipFill>
        <p:spPr>
          <a:xfrm>
            <a:off x="5033880" y="2924280"/>
            <a:ext cx="4110120" cy="3494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5003640" cy="279720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а 3 из 2918"/>
          <p:cNvPicPr/>
          <p:nvPr/>
        </p:nvPicPr>
        <p:blipFill>
          <a:blip r:embed="rId1"/>
          <a:stretch/>
        </p:blipFill>
        <p:spPr>
          <a:xfrm>
            <a:off x="2050920" y="260280"/>
            <a:ext cx="504828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6671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9 из 4484"/>
          <p:cNvPicPr/>
          <p:nvPr/>
        </p:nvPicPr>
        <p:blipFill>
          <a:blip r:embed="rId1"/>
          <a:stretch/>
        </p:blipFill>
        <p:spPr>
          <a:xfrm>
            <a:off x="395280" y="549360"/>
            <a:ext cx="74516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а 51 из 4484"/>
          <p:cNvPicPr/>
          <p:nvPr/>
        </p:nvPicPr>
        <p:blipFill>
          <a:blip r:embed="rId1"/>
          <a:stretch/>
        </p:blipFill>
        <p:spPr>
          <a:xfrm>
            <a:off x="0" y="-4680"/>
            <a:ext cx="914544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Картинка 92 из 4484"/>
          <p:cNvPicPr/>
          <p:nvPr/>
        </p:nvPicPr>
        <p:blipFill>
          <a:blip r:embed="rId1"/>
          <a:stretch/>
        </p:blipFill>
        <p:spPr>
          <a:xfrm>
            <a:off x="324000" y="620640"/>
            <a:ext cx="6048360" cy="4087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35640" y="3141720"/>
            <a:ext cx="3182760" cy="345276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Картинка 26 из 460850"/>
          <p:cNvPicPr/>
          <p:nvPr/>
        </p:nvPicPr>
        <p:blipFill>
          <a:blip r:embed="rId1"/>
          <a:stretch/>
        </p:blipFill>
        <p:spPr>
          <a:xfrm>
            <a:off x="539640" y="0"/>
            <a:ext cx="770436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148 из 159387"/>
          <p:cNvPicPr/>
          <p:nvPr/>
        </p:nvPicPr>
        <p:blipFill>
          <a:blip r:embed="rId1"/>
          <a:stretch/>
        </p:blipFill>
        <p:spPr>
          <a:xfrm>
            <a:off x="1476360" y="428760"/>
            <a:ext cx="61912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8:34:29Z</dcterms:created>
  <dc:creator>Customer</dc:creator>
  <dc:description/>
  <dc:language>en-US</dc:language>
  <cp:lastModifiedBy>Customer</cp:lastModifiedBy>
  <dcterms:modified xsi:type="dcterms:W3CDTF">2012-05-09T18:28:43Z</dcterms:modified>
  <cp:revision>3</cp:revision>
  <dc:subject/>
  <dc:title>Слайд 1</dc:title>
</cp:coreProperties>
</file>